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86B-5F5A-403C-8118-F70B46C4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57D-2765-4626-AE31-37A4C8D6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1EA-45A3-434F-B37C-0E5B7E07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C71-D2F9-4677-BCB8-CEDE5423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901-E582-4055-BAAF-A4025818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8F4-BB09-4E8D-B068-03713DF8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387-5E86-4F97-832D-260B8C2F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D5E-E216-437C-8201-C7BD6AF2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681-89EA-45FB-BA14-54DD4CF5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762-B64D-4F51-97E6-0AB6577E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A51-6490-40AC-986B-43B45BA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7F3-0DA1-4E2B-BC89-1341E42D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3305-9CC6-444F-B1BD-E9B2BA74F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09680" y="-7632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58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2T18:35:01Z</dcterms:modified>
  <cp:revision>5</cp:revision>
  <dc:subject/>
  <dc:title>Slide 1</dc:title>
</cp:coreProperties>
</file>